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45E-B2AA-44FA-9A58-01139287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218-BB8D-4736-B7B3-9D55AD20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73E-D840-464A-9BDF-A2DC2EDA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9F1B-8539-4B67-9346-788B2EFD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1159-E74B-436A-922A-23D578C1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5BE3-5FC7-4192-B601-E3289BC7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F5E9-CD88-4978-9D56-BF996F7E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82DE-6B73-4530-B558-1339273A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188B-C374-4140-B355-5CCD2A03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8685-3001-4E79-80AF-FEB940DA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F50D-BA84-4004-8F9F-1A9B947D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DBB-920F-4E95-A52B-3188B8D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8571-42DD-4276-9255-9BE19E3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FAAA-4B44-4642-B1E5-0B63E8D3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F143-DCD7-4FD1-9BC3-E552C2C0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DF2-5695-428F-949D-F9FA0606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24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4200" y="213372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24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4200" y="4203360"/>
            <a:ext cx="242892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1D6A-A155-4668-84F9-E182A26F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8E8-9220-45C9-8380-FFD38B48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7E1B-F7D3-4561-B886-1877617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8BC-E149-4018-BB24-FF677D9E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95120" y="6094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C40-0C0B-4BCB-A4BB-4F7E6CDC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045-8B26-4831-9095-2DCFA383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8320" y="420336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F7E-51CE-4A37-9B9F-022A3022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8320" y="2133720"/>
            <a:ext cx="3681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203360"/>
            <a:ext cx="75438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49E-4AAA-4D0D-AC19-44DF4800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69BD-5938-4379-AA93-E6F781319ADE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23C8-7481-4C8F-BE3D-56969EB8762F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51"/>
              </a:spcBef>
              <a:buClr>
                <a:srgbClr val="4c4c4c"/>
              </a:buClr>
              <a:buFont typeface="Wingdings" charset="2"/>
              <a:buChar char="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package" Target="../embeddings/oleObject1.docx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own.edu/Departments/Anthropology/publications/FUNDMNTALISM.htm" TargetMode="External"/><Relationship Id="rId3" Type="http://schemas.openxmlformats.org/officeDocument/2006/relationships/hyperlink" Target="http://www.brown.edu/Departments/Anthropology/publications/FUNDMNTALISM.htm" TargetMode="External"/><Relationship Id="rId4" Type="http://schemas.openxmlformats.org/officeDocument/2006/relationships/hyperlink" Target="http://www.brown.edu/Departments/Anthropology/publications/FUNDMNTALISM.htm" TargetMode="External"/><Relationship Id="rId5" Type="http://schemas.openxmlformats.org/officeDocument/2006/relationships/hyperlink" Target="http://www.brown.edu/Departments/Anthropology/publications/FUNDMNTALISM.htm" TargetMode="External"/><Relationship Id="rId6" Type="http://schemas.openxmlformats.org/officeDocument/2006/relationships/hyperlink" Target="http://www.awesomelibrary.org/Muslims-Rage.html" TargetMode="External"/><Relationship Id="rId7" Type="http://schemas.openxmlformats.org/officeDocument/2006/relationships/hyperlink" Target="http://archives.cnn.com/2001/WORLD/asiapcf/central/09/19/inv.afghanistan.camp/" TargetMode="External"/><Relationship Id="rId8" Type="http://schemas.openxmlformats.org/officeDocument/2006/relationships/hyperlink" Target="http://www.zionism.netfirms.com/fundamentalism.html" TargetMode="External"/><Relationship Id="rId9" Type="http://schemas.openxmlformats.org/officeDocument/2006/relationships/hyperlink" Target="http://www.zionism.netfirms.com/fundamentalism.html" TargetMode="External"/><Relationship Id="rId10" Type="http://schemas.openxmlformats.org/officeDocument/2006/relationships/hyperlink" Target="http://www.zionism.netfirms.com/fundamentalism.html" TargetMode="External"/><Relationship Id="rId11" Type="http://schemas.openxmlformats.org/officeDocument/2006/relationships/hyperlink" Target="http://www.zionism.netfirms.com/fundamentalism.html" TargetMode="External"/><Relationship Id="rId12" Type="http://schemas.openxmlformats.org/officeDocument/2006/relationships/hyperlink" Target="http://www.zionism.netfirms.com/fundamentalism.html" TargetMode="External"/><Relationship Id="rId13" Type="http://schemas.openxmlformats.org/officeDocument/2006/relationships/hyperlink" Target="http://www.bookrags.com/researchtopics/the-middle-east-os/sub18.html" TargetMode="External"/><Relationship Id="rId14" Type="http://schemas.openxmlformats.org/officeDocument/2006/relationships/hyperlink" Target="http://www.bookrags.com/researchtopics/the-middle-east-os/sub18.html" TargetMode="External"/><Relationship Id="rId15" Type="http://schemas.openxmlformats.org/officeDocument/2006/relationships/hyperlink" Target="http://www.bookrags.com/researchtopics/the-middle-east-os/sub18.html" TargetMode="External"/><Relationship Id="rId16" Type="http://schemas.openxmlformats.org/officeDocument/2006/relationships/hyperlink" Target="http://www.noi.org/cointelpro/" TargetMode="External"/><Relationship Id="rId17" Type="http://schemas.openxmlformats.org/officeDocument/2006/relationships/hyperlink" Target="http://www.noi.org/cointelpro/" TargetMode="External"/><Relationship Id="rId18" Type="http://schemas.openxmlformats.org/officeDocument/2006/relationships/hyperlink" Target="http://www.noi.org/cointelpro/" TargetMode="External"/><Relationship Id="rId19" Type="http://schemas.openxmlformats.org/officeDocument/2006/relationships/hyperlink" Target="http://www.noi.org/cointelpro/" TargetMode="External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14600" y="1295280"/>
            <a:ext cx="4971960" cy="46753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Religious fundamentalism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2880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y Marc and Spenc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ymbolis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1832040" cy="1904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9343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26672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4038840" cy="287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685800"/>
            <a:ext cx="3047760" cy="292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505320" y="3886200"/>
            <a:ext cx="2779560" cy="2819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Tree of Religion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5333760" cy="3759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48520" y="2971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556272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da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441936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52880" y="3504960"/>
            <a:ext cx="144792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352680" y="3505320"/>
            <a:ext cx="13716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2590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275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4343400" cy="2011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257800" y="2819520"/>
            <a:ext cx="3048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314784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2241720" cy="2330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581280" y="4038480"/>
            <a:ext cx="29718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udio-Video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4065840" cy="228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15000" y="3352680"/>
            <a:ext cx="2590920" cy="280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143000" y="3954600"/>
          <a:ext cx="7543800" cy="320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3954600"/>
                    <a:ext cx="754380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95120" y="6094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www.brown.</a:t>
            </a: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edu/Departments/Anthropology/publications/FUNDMNTALISM</a:t>
            </a: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CA" sz="1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ht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3333cc"/>
                </a:solidFill>
                <a:uFillTx/>
                <a:latin typeface="Papyrus"/>
                <a:hlinkClick r:id="rId6"/>
              </a:rPr>
              <a:t>http://www.awesomelibrary.org/Muslims-Rage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3333cc"/>
                </a:solidFill>
                <a:uFillTx/>
                <a:latin typeface="Papyrus"/>
                <a:hlinkClick r:id="rId7"/>
              </a:rPr>
              <a:t>http://archives.cnn.com/2001/WORLD/asiapcf/central/09/19/inv.afghanistan.camp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8"/>
              </a:rPr>
              <a:t>http://www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9"/>
              </a:rPr>
              <a:t>zionism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0"/>
              </a:rPr>
              <a:t>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1"/>
              </a:rPr>
              <a:t>netfirms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2"/>
              </a:rPr>
              <a:t>.com/fundamentalism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3"/>
              </a:rPr>
              <a:t>http://www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4"/>
              </a:rPr>
              <a:t>bookrags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5"/>
              </a:rPr>
              <a:t>.com/researchtopics/the-middle-east-os/sub18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6"/>
              </a:rPr>
              <a:t>http://www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7"/>
              </a:rPr>
              <a:t>noi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8"/>
              </a:rPr>
              <a:t>.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Papyrus"/>
                <a:hlinkClick r:id="rId19"/>
              </a:rPr>
              <a:t>org/cointelpro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en.wikipedia.org/wiki/Islamis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www.springerlink.com/content/q4668m27035k36h6/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www.bibalex.org/BeaconForFreedom/pdf/Fundamentalismmostafaerazzaz.pdf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www.euronet.nl/users/e_wesker/fundam.ht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c4c4c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Papyrus"/>
              </a:rPr>
              <a:t>http://members.iinet.net.au/~jgowland/Islamic%20Fundamentalism.htm</a:t>
            </a:r>
            <a:r>
              <a:rPr b="0" lang="en-US" sz="1400" spc="-1" strike="noStrike">
                <a:solidFill>
                  <a:srgbClr val="000000"/>
                </a:solidFill>
                <a:latin typeface="Papyru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7:13:36Z</dcterms:created>
  <dc:creator>Tanis Kitteringham</dc:creator>
  <dc:description/>
  <dc:language>en-US</dc:language>
  <cp:lastModifiedBy>ripkensa</cp:lastModifiedBy>
  <dcterms:modified xsi:type="dcterms:W3CDTF">2009-10-13T19:30:28Z</dcterms:modified>
  <cp:revision>2</cp:revision>
  <dc:subject/>
  <dc:title>Religious fundamentalism</dc:title>
</cp:coreProperties>
</file>